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EF05-707C-47E2-882F-0A100D5D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3E5A-6DF1-499D-B54A-2D9AD213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D8F6-F4FB-4F98-99FB-977D7A64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24EB-9F91-4CDA-AFB3-8571F2E3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855-268C-4622-8B60-4C561930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432D-FA38-419B-AD88-C3D32963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FC61-068C-4749-B0D0-F8282848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9F24-40C4-4D62-9454-487C55FD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4427-A81F-46EE-88A6-379E986B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6AAC-B93F-4E85-8B56-09199965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383C-4593-4058-A077-57A598C6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16B-D8C1-4C65-ADF5-172715F0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5245-4C55-4CB3-AC23-94BB34AEA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436680" y="-665280"/>
            <a:ext cx="7732800" cy="1047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316080" y="-304920"/>
            <a:ext cx="4678560" cy="4050000"/>
          </a:xfrm>
          <a:custGeom>
            <a:avLst/>
            <a:gdLst/>
            <a:ahLst/>
            <a:rect l="l" t="t" r="r" b="b"/>
            <a:pathLst>
              <a:path w="2947" h="2551">
                <a:moveTo>
                  <a:pt x="2947" y="306"/>
                </a:moveTo>
                <a:lnTo>
                  <a:pt x="2695" y="240"/>
                </a:lnTo>
                <a:lnTo>
                  <a:pt x="2599" y="48"/>
                </a:lnTo>
                <a:lnTo>
                  <a:pt x="2023" y="0"/>
                </a:lnTo>
                <a:lnTo>
                  <a:pt x="1159" y="528"/>
                </a:lnTo>
                <a:lnTo>
                  <a:pt x="439" y="1584"/>
                </a:lnTo>
                <a:lnTo>
                  <a:pt x="0" y="2009"/>
                </a:lnTo>
                <a:lnTo>
                  <a:pt x="188" y="2551"/>
                </a:lnTo>
              </a:path>
            </a:pathLst>
          </a:custGeom>
          <a:noFill/>
          <a:ln w="63360">
            <a:solidFill>
              <a:srgbClr val="cc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733920"/>
            <a:ext cx="6216480" cy="5340240"/>
          </a:xfrm>
          <a:custGeom>
            <a:avLst/>
            <a:gdLst/>
            <a:ahLst/>
            <a:rect l="l" t="t" r="r" b="b"/>
            <a:pathLst>
              <a:path w="3916" h="3364">
                <a:moveTo>
                  <a:pt x="0" y="0"/>
                </a:moveTo>
                <a:lnTo>
                  <a:pt x="1218" y="417"/>
                </a:lnTo>
                <a:lnTo>
                  <a:pt x="3620" y="1080"/>
                </a:lnTo>
                <a:lnTo>
                  <a:pt x="3444" y="2080"/>
                </a:lnTo>
                <a:lnTo>
                  <a:pt x="3476" y="2300"/>
                </a:lnTo>
                <a:lnTo>
                  <a:pt x="3507" y="3108"/>
                </a:lnTo>
                <a:lnTo>
                  <a:pt x="3916" y="3364"/>
                </a:lnTo>
              </a:path>
            </a:pathLst>
          </a:custGeom>
          <a:noFill/>
          <a:ln w="63360">
            <a:solidFill>
              <a:srgbClr val="ff66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87480" y="3798720"/>
            <a:ext cx="2221200" cy="1611360"/>
          </a:xfrm>
          <a:custGeom>
            <a:avLst/>
            <a:gdLst/>
            <a:ahLst/>
            <a:rect l="l" t="t" r="r" b="b"/>
            <a:pathLst>
              <a:path w="1399" h="1015">
                <a:moveTo>
                  <a:pt x="0" y="0"/>
                </a:moveTo>
                <a:lnTo>
                  <a:pt x="1273" y="443"/>
                </a:lnTo>
                <a:lnTo>
                  <a:pt x="1399" y="775"/>
                </a:lnTo>
                <a:lnTo>
                  <a:pt x="1399" y="1015"/>
                </a:lnTo>
              </a:path>
            </a:pathLst>
          </a:custGeom>
          <a:noFill/>
          <a:ln w="63360">
            <a:solidFill>
              <a:srgbClr val="008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90320" y="968400"/>
            <a:ext cx="2635920" cy="703800"/>
          </a:xfrm>
          <a:prstGeom prst="rect">
            <a:avLst/>
          </a:prstGeom>
          <a:solidFill>
            <a:srgbClr val="ffffff">
              <a:alpha val="69000"/>
            </a:srgbClr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Dark Red Line dep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route to/from R-25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3200" y="3481560"/>
            <a:ext cx="2492640" cy="703800"/>
          </a:xfrm>
          <a:prstGeom prst="rect">
            <a:avLst/>
          </a:prstGeom>
          <a:solidFill>
            <a:srgbClr val="ffffff">
              <a:alpha val="69000"/>
            </a:srgbClr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Green Line dep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route to/from R-2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67800" y="4319640"/>
            <a:ext cx="2492640" cy="703800"/>
          </a:xfrm>
          <a:prstGeom prst="rect">
            <a:avLst/>
          </a:prstGeom>
          <a:solidFill>
            <a:srgbClr val="ffffff">
              <a:alpha val="69000"/>
            </a:srgbClr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Orange Line dep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route to/from R-23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4T19:42:07Z</dcterms:created>
  <dc:creator>HP Authorized Customer</dc:creator>
  <dc:description/>
  <dc:language>en-US</dc:language>
  <cp:lastModifiedBy>MillerTL</cp:lastModifiedBy>
  <dcterms:modified xsi:type="dcterms:W3CDTF">2008-04-24T15:20:42Z</dcterms:modified>
  <cp:revision>5</cp:revision>
  <dc:subject/>
  <dc:title>Slide 1</dc:title>
</cp:coreProperties>
</file>